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15D-84E5-4DCE-9671-D9964FA6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CC7-4B7E-4F54-85E8-0ECD684B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1C8-2A26-43E1-A7EB-6155FA45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36E-2922-412B-8AC9-96B6B896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0DDE-D53B-42E8-9A5F-C1ABCAF9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67C2-2D4E-4882-B77D-B5DFDEEB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F068-0D81-4007-AB63-99013C18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25F7-D949-4244-86FC-5A2DD912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36E9-9614-4D6D-B286-36D2E829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FD79-6B41-452B-853A-895BA86C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AC16-5280-43C3-9940-EF30CDD8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5CD-E047-4AEB-B54D-DBF885ED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E359-9077-416A-A128-4AEA4779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224A-92B0-406E-BAE9-D5E66FB3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108A-0916-4C75-A680-AB03B03B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A1CE-9B34-465E-B5CB-D3BE54F6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CDF6-D941-4143-8AAE-E3D7D1F0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B351-DABE-4C15-AD2C-EE0A034C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2F2-F9B0-4BF0-9D13-A405CD47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9FE-53A4-4899-B0D7-15952BD5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1BB-5E9D-4548-922B-EB6C5CF1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CB3-63D2-43F3-AA6C-5E5B583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17F-0BC8-4945-92B6-0CB309B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267-EFED-419E-BD01-8FE3054E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BB71-03FB-40EF-9CDE-E824B1D9AA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E19C-AAD4-468D-8A0D-675C46AD9C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d5007"/>
                </a:solidFill>
                <a:latin typeface="Tahoma"/>
              </a:rPr>
              <a:t>New IEP Meeting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to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at to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nderstanding Eligibility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SE Eligibility Determination (ED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-3240" y="1840320"/>
            <a:ext cx="9165600" cy="4256640"/>
            <a:chOff x="-3240" y="1840320"/>
            <a:chExt cx="9165600" cy="4256640"/>
          </a:xfrm>
        </p:grpSpPr>
        <p:cxnSp>
          <p:nvCxnSpPr>
            <p:cNvPr id="137" name="_s29725"/>
            <p:cNvCxnSpPr>
              <a:stCxn id="138" idx="1"/>
              <a:endCxn id="139" idx="2"/>
            </p:cNvCxnSpPr>
            <p:nvPr/>
          </p:nvCxnSpPr>
          <p:spPr>
            <a:xfrm rot="10800000">
              <a:off x="3712320" y="5503320"/>
              <a:ext cx="475920" cy="3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9723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6253920" y="3664440"/>
              <a:ext cx="193680" cy="175752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9719"/>
            <p:cNvCxnSpPr>
              <a:stCxn id="139" idx="0"/>
              <a:endCxn id="142" idx="2"/>
            </p:cNvCxnSpPr>
            <p:nvPr/>
          </p:nvCxnSpPr>
          <p:spPr>
            <a:xfrm flipH="1" flipV="1" rot="5400000">
              <a:off x="4495680" y="3663360"/>
              <a:ext cx="193680" cy="176004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29717"/>
            <p:cNvCxnSpPr>
              <a:stCxn id="142" idx="0"/>
              <a:endCxn id="145" idx="2"/>
            </p:cNvCxnSpPr>
            <p:nvPr/>
          </p:nvCxnSpPr>
          <p:spPr>
            <a:xfrm flipV="1" rot="16200000">
              <a:off x="4825080" y="3189960"/>
              <a:ext cx="193680" cy="110124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29715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2920320" y="2386080"/>
              <a:ext cx="193680" cy="270900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29708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6056280" y="747360"/>
              <a:ext cx="193680" cy="314424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29707"/>
            <p:cNvCxnSpPr>
              <a:stCxn id="145" idx="0"/>
              <a:endCxn id="150" idx="2"/>
            </p:cNvCxnSpPr>
            <p:nvPr/>
          </p:nvCxnSpPr>
          <p:spPr>
            <a:xfrm flipH="1" flipV="1" rot="5400000">
              <a:off x="4379760" y="2214720"/>
              <a:ext cx="193680" cy="210240"/>
            </a:xfrm>
            <a:prstGeom prst="bentConnector3">
              <a:avLst>
                <a:gd name="adj1" fmla="val 4953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0" name="_s29703"/>
            <p:cNvSpPr/>
            <p:nvPr/>
          </p:nvSpPr>
          <p:spPr>
            <a:xfrm>
              <a:off x="2592000" y="1840320"/>
              <a:ext cx="3975120" cy="3826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240" rIns="2124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Does the student have a disability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9704"/>
            <p:cNvSpPr/>
            <p:nvPr/>
          </p:nvSpPr>
          <p:spPr>
            <a:xfrm>
              <a:off x="2934360" y="2416320"/>
              <a:ext cx="2874240" cy="12276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240" rIns="2124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s the student mak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ffective progres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(2.5 or better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9705"/>
            <p:cNvSpPr/>
            <p:nvPr/>
          </p:nvSpPr>
          <p:spPr>
            <a:xfrm>
              <a:off x="6288120" y="2416320"/>
              <a:ext cx="2874240" cy="1227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240" rIns="2124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udent is not eligib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Special Educa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ut may be eligibl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or other services (504 or DCAP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9714"/>
            <p:cNvSpPr/>
            <p:nvPr/>
          </p:nvSpPr>
          <p:spPr>
            <a:xfrm>
              <a:off x="-3240" y="3837240"/>
              <a:ext cx="3330000" cy="609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udent not elig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9716"/>
            <p:cNvSpPr/>
            <p:nvPr/>
          </p:nvSpPr>
          <p:spPr>
            <a:xfrm>
              <a:off x="3805920" y="3837240"/>
              <a:ext cx="333000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s lack of progress due to disability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9718"/>
            <p:cNvSpPr/>
            <p:nvPr/>
          </p:nvSpPr>
          <p:spPr>
            <a:xfrm>
              <a:off x="2192040" y="4640400"/>
              <a:ext cx="3038040" cy="8636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es student requi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ially designed instruction 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lated service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9722"/>
            <p:cNvSpPr/>
            <p:nvPr/>
          </p:nvSpPr>
          <p:spPr>
            <a:xfrm>
              <a:off x="5709240" y="4640400"/>
              <a:ext cx="3037320" cy="8636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2840" rIns="4284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udent not eligibl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9724"/>
            <p:cNvSpPr/>
            <p:nvPr/>
          </p:nvSpPr>
          <p:spPr>
            <a:xfrm>
              <a:off x="4188240" y="5697000"/>
              <a:ext cx="2874240" cy="399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Student is eligibl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change?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logical order of presentation of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amline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eligibility de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IEP Meeting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742840"/>
            <a:ext cx="77724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ual IEP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-year re-evaluation IEP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Evaluation to determine elig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order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nual IEP Review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s &amp; Sign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of current IEP disability and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sts/service providers review progress on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iculum Teachers review progress toward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 questions/feedback/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eligibility de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ligible, develop updated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order fo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-year Re-eval. IEP 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s &amp; Sign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of current IEP disability and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updated testing results &amp; informal 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sts/service providers review progress on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iculum Teachers review progress toward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 questions/feedback/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eligibility de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ligible, develop updated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sentation order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itial Evaluation/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igibility Determination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s &amp; Sign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reason for referral/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testing results &amp; informal assess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sts/service providers review progress on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iculum Teachers review progress toward IEP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 questions/feedback/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eligibility de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ligible, develop updated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eamlining the proces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curriculum teachers n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simplify information to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pecial Ed. teacher/Team Chair will review with team teachers: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381024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r Annual/Re-ev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4760" y="2285640"/>
            <a:ext cx="38098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r Initial Ev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ew reason for refer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pected di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Annual Reviews and 3-year Re-evals., team teachers answer the following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4920" y="2348640"/>
            <a:ext cx="8670960" cy="4205880"/>
            <a:chOff x="304920" y="2348640"/>
            <a:chExt cx="8670960" cy="4205880"/>
          </a:xfrm>
        </p:grpSpPr>
        <p:cxnSp>
          <p:nvCxnSpPr>
            <p:cNvPr id="118" name="_s27681"/>
            <p:cNvCxnSpPr>
              <a:stCxn id="119" idx="1"/>
              <a:endCxn id="120" idx="2"/>
            </p:cNvCxnSpPr>
            <p:nvPr/>
          </p:nvCxnSpPr>
          <p:spPr>
            <a:xfrm rot="10800000">
              <a:off x="3745800" y="6038280"/>
              <a:ext cx="217440" cy="32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7679"/>
            <p:cNvCxnSpPr>
              <a:stCxn id="122" idx="1"/>
              <a:endCxn id="123" idx="2"/>
            </p:cNvCxnSpPr>
            <p:nvPr/>
          </p:nvCxnSpPr>
          <p:spPr>
            <a:xfrm rot="10800000">
              <a:off x="3745800" y="5073120"/>
              <a:ext cx="217440" cy="330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71"/>
            <p:cNvCxnSpPr>
              <a:stCxn id="120" idx="1"/>
              <a:endCxn id="125" idx="2"/>
            </p:cNvCxnSpPr>
            <p:nvPr/>
          </p:nvCxnSpPr>
          <p:spPr>
            <a:xfrm rot="10800000">
              <a:off x="2872800" y="4592160"/>
              <a:ext cx="217800" cy="127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7669"/>
            <p:cNvCxnSpPr>
              <a:stCxn id="123" idx="1"/>
              <a:endCxn id="125" idx="2"/>
            </p:cNvCxnSpPr>
            <p:nvPr/>
          </p:nvCxnSpPr>
          <p:spPr>
            <a:xfrm rot="10800000">
              <a:off x="2872800" y="4592160"/>
              <a:ext cx="217800" cy="311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67"/>
            <p:cNvCxnSpPr>
              <a:stCxn id="128" idx="0"/>
              <a:endCxn id="129" idx="2"/>
            </p:cNvCxnSpPr>
            <p:nvPr/>
          </p:nvCxnSpPr>
          <p:spPr>
            <a:xfrm flipH="1" flipV="1" rot="5400000">
              <a:off x="6337800" y="3639960"/>
              <a:ext cx="141840" cy="2160"/>
            </a:xfrm>
            <a:prstGeom prst="bentConnector3">
              <a:avLst>
                <a:gd name="adj1" fmla="val 49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7665"/>
            <p:cNvCxnSpPr>
              <a:stCxn id="125" idx="0"/>
              <a:endCxn id="131" idx="2"/>
            </p:cNvCxnSpPr>
            <p:nvPr/>
          </p:nvCxnSpPr>
          <p:spPr>
            <a:xfrm flipH="1" flipV="1" rot="5400000">
              <a:off x="3592440" y="2850840"/>
              <a:ext cx="141840" cy="1580400"/>
            </a:xfrm>
            <a:prstGeom prst="bentConnector3">
              <a:avLst>
                <a:gd name="adj1" fmla="val 49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7660"/>
            <p:cNvCxnSpPr>
              <a:stCxn id="129" idx="0"/>
              <a:endCxn id="133" idx="2"/>
            </p:cNvCxnSpPr>
            <p:nvPr/>
          </p:nvCxnSpPr>
          <p:spPr>
            <a:xfrm flipV="1" rot="16200000">
              <a:off x="5453640" y="2259000"/>
              <a:ext cx="141840" cy="1770120"/>
            </a:xfrm>
            <a:prstGeom prst="bentConnector3">
              <a:avLst>
                <a:gd name="adj1" fmla="val 49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7659"/>
            <p:cNvCxnSpPr>
              <a:stCxn id="131" idx="0"/>
              <a:endCxn id="133" idx="2"/>
            </p:cNvCxnSpPr>
            <p:nvPr/>
          </p:nvCxnSpPr>
          <p:spPr>
            <a:xfrm flipH="1" flipV="1" rot="5400000">
              <a:off x="4475880" y="3050640"/>
              <a:ext cx="141840" cy="187200"/>
            </a:xfrm>
            <a:prstGeom prst="bentConnector3">
              <a:avLst>
                <a:gd name="adj1" fmla="val 49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27655"/>
            <p:cNvSpPr/>
            <p:nvPr/>
          </p:nvSpPr>
          <p:spPr>
            <a:xfrm>
              <a:off x="304920" y="2348640"/>
              <a:ext cx="8670960" cy="72396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s the student currently meeting (3.0+) or close to meeting (2.5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iculum standards for your subject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7656"/>
            <p:cNvSpPr/>
            <p:nvPr/>
          </p:nvSpPr>
          <p:spPr>
            <a:xfrm>
              <a:off x="3798000" y="3214800"/>
              <a:ext cx="1309320" cy="3546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7657"/>
            <p:cNvSpPr/>
            <p:nvPr/>
          </p:nvSpPr>
          <p:spPr>
            <a:xfrm>
              <a:off x="5753880" y="3214800"/>
              <a:ext cx="1309320" cy="3546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240" rIns="39240" tIns="19800" bIns="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4"/>
            <p:cNvSpPr/>
            <p:nvPr/>
          </p:nvSpPr>
          <p:spPr>
            <a:xfrm>
              <a:off x="1213560" y="3711600"/>
              <a:ext cx="3317040" cy="879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s their success a result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ifications of to the curriculum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7666"/>
            <p:cNvSpPr/>
            <p:nvPr/>
          </p:nvSpPr>
          <p:spPr>
            <a:xfrm>
              <a:off x="4749480" y="3711600"/>
              <a:ext cx="3317040" cy="879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160" rIns="5616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line specific areas of concer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tilizing the Teac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ssessment Ru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68"/>
            <p:cNvSpPr/>
            <p:nvPr/>
          </p:nvSpPr>
          <p:spPr>
            <a:xfrm>
              <a:off x="3090960" y="4734000"/>
              <a:ext cx="1309320" cy="3394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960" rIns="5796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7670"/>
            <p:cNvSpPr/>
            <p:nvPr/>
          </p:nvSpPr>
          <p:spPr>
            <a:xfrm>
              <a:off x="3090960" y="5698440"/>
              <a:ext cx="1309320" cy="33948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78"/>
            <p:cNvSpPr/>
            <p:nvPr/>
          </p:nvSpPr>
          <p:spPr>
            <a:xfrm>
              <a:off x="3963240" y="5216040"/>
              <a:ext cx="3727080" cy="374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EP team determines continued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7680"/>
            <p:cNvSpPr/>
            <p:nvPr/>
          </p:nvSpPr>
          <p:spPr>
            <a:xfrm>
              <a:off x="3963240" y="6180480"/>
              <a:ext cx="3727080" cy="3740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You are done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6:48:19Z</dcterms:created>
  <dc:creator>Mindy Sefton</dc:creator>
  <dc:description/>
  <dc:language>en-US</dc:language>
  <cp:lastModifiedBy>Mindy Sefton</cp:lastModifiedBy>
  <dcterms:modified xsi:type="dcterms:W3CDTF">2010-11-04T14:22:23Z</dcterms:modified>
  <cp:revision>9</cp:revision>
  <dc:subject/>
  <dc:title>New IEP Meeting Forma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48161796</vt:r8>
  </property>
  <property fmtid="{D5CDD505-2E9C-101B-9397-08002B2CF9AE}" pid="3" name="_AuthorEmail">
    <vt:lpwstr>MSefton@shrewsbury.k12.ma.us</vt:lpwstr>
  </property>
  <property fmtid="{D5CDD505-2E9C-101B-9397-08002B2CF9AE}" pid="4" name="_AuthorEmailDisplayName">
    <vt:lpwstr>Mindy Sefton</vt:lpwstr>
  </property>
  <property fmtid="{D5CDD505-2E9C-101B-9397-08002B2CF9AE}" pid="5" name="_EmailSubject">
    <vt:lpwstr>PPT</vt:lpwstr>
  </property>
</Properties>
</file>